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6DA-5665-4873-BC48-408AF043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EA5-FFE1-4C53-90EE-A8F1D8F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FEF-4CBD-40CD-B09E-FFF5A83F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83C-DCA0-4447-B7CD-D89FE259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4AE-4391-40B9-8ABC-20EAC78D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459-2976-4935-990B-2403527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ABF-8A4F-49BA-8124-287F3E6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312-C6AE-4AB0-9C63-2094E832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24C-9252-4F56-A076-25DD610B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D34-86A0-46BC-B29B-DF714B2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61F-0E3E-4A76-A0C6-2A922115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874-5F4B-45DD-9B02-FF7688F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DE68-A033-4136-8074-EFDCD034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on chapters 10-1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0:22:21Z</dcterms:created>
  <dc:creator>student</dc:creator>
  <dc:description/>
  <dc:language>en-US</dc:language>
  <cp:lastModifiedBy>student</cp:lastModifiedBy>
  <dcterms:modified xsi:type="dcterms:W3CDTF">2011-04-01T19:51:28Z</dcterms:modified>
  <cp:revision>3</cp:revision>
  <dc:subject/>
  <dc:title>English</dc:title>
</cp:coreProperties>
</file>